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2605"/>
        <c:axId val="72854261"/>
      </c:barChart>
      <c:catAx>
        <c:axId val="1082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54261"/>
        <c:crosses val="autoZero"/>
        <c:auto val="1"/>
        <c:lblAlgn val="ctr"/>
        <c:lblOffset val="100"/>
        <c:noMultiLvlLbl val="0"/>
      </c:catAx>
      <c:valAx>
        <c:axId val="72854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2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34D-BD3E-4AEE-B104-733CADBF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02E-89AF-4F6D-B6C8-66C1E52E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376-986E-445B-9A84-3FE9C88B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B54-A92C-48E8-B070-5573DE0A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7AB-F5C5-4916-8212-014737A8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503-F377-4373-A347-3BBC9C78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B49-D314-483F-920F-403051DA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42A-780C-483B-942D-F75A6487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927-09CC-4AC9-B029-627C37D5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691F-2E8C-4293-9334-0EA1D4C8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4A4-8005-491C-A28C-7C62BF98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E8C-797A-4C38-B8F0-A5BE1FAD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7BEEF-BAAA-4F03-89D5-66CBD554D6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