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7440"/>
        <c:axId val="47456881"/>
      </c:barChart>
      <c:catAx>
        <c:axId val="96477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6881"/>
        <c:crosses val="autoZero"/>
        <c:auto val="1"/>
        <c:lblAlgn val="ctr"/>
        <c:lblOffset val="100"/>
        <c:noMultiLvlLbl val="0"/>
      </c:catAx>
      <c:valAx>
        <c:axId val="47456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7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D31-9884-4C4F-8AF3-27FBC0F0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07C-D7CF-4159-A87D-A64B81A3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296-C3E5-47C8-A44F-8B9FA769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D54-FA84-4B0D-80DB-DAA5A6F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FF7-131F-4E69-A2AF-8B77A5C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292-0BB9-4DA1-8C9D-FAC082CD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99C-FD02-4BE2-BF28-D8A6F54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EE3-C473-4851-91B4-ECFB202E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FBA-31DD-48D9-A332-CDDF991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6B7-7868-41AB-B4B7-B619AC2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B99-1AE6-428C-9FCC-3C2DBB0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C7C-6AE4-4E9D-B650-B973D4A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1AE57-26DE-4D60-997A-78B14F1FF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