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01068"/>
        <c:axId val="93206578"/>
      </c:barChart>
      <c:catAx>
        <c:axId val="25901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06578"/>
        <c:crosses val="autoZero"/>
        <c:auto val="1"/>
        <c:lblAlgn val="ctr"/>
        <c:lblOffset val="100"/>
        <c:noMultiLvlLbl val="0"/>
      </c:catAx>
      <c:valAx>
        <c:axId val="93206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01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07E-6070-4C43-963D-5A384E4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BF09-434F-4B3B-ACBB-70915A91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427-92B6-42BE-9515-8FCAAE9F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BAB-D86E-4B9D-856A-8CA77E7A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222-B844-461F-8178-6F17D23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936-C249-4330-A59F-AED383B8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527-4A2F-464F-BC9E-5DA425D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7ED-CD78-40D2-9D36-5744020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B6F-EC08-4246-AE36-AC4E402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4C7-307D-45E3-B66E-F4A9DA6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B40-8AAB-405F-9F76-F8695A07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97E-1149-4EA8-B786-1C1D605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2A610-E319-459E-8FAA-F2168E7915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