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290675"/>
        <c:axId val="53537346"/>
      </c:barChart>
      <c:catAx>
        <c:axId val="162906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37346"/>
        <c:crosses val="autoZero"/>
        <c:auto val="1"/>
        <c:lblAlgn val="ctr"/>
        <c:lblOffset val="100"/>
        <c:noMultiLvlLbl val="0"/>
      </c:catAx>
      <c:valAx>
        <c:axId val="535373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906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A728-7F8F-4ACD-AD10-7E4A3FDA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AE9C-53A8-444A-9BDD-245434B0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9E28-2991-4823-AB6E-7C5E45E5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EFA6-1F56-4AC5-A5D7-BD982AAA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5CCB-9692-44C3-93F9-512597BF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D042-CA10-4F2B-B736-1B13FB23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BDC3-A041-4BED-80B0-E875D7C4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46FF-B16A-42A3-8CA7-DB7B0C06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10E-149C-4B30-A92B-CA34B479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636A-B04E-43E1-87BC-0B7988CD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8AFB-DA3E-4A00-B251-B6BAB143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C2C8-29AB-4832-9B28-47B9B688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4674C-E55E-4BD9-A357-34D6C69408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