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078881"/>
        <c:axId val="90410827"/>
      </c:barChart>
      <c:catAx>
        <c:axId val="77078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10827"/>
        <c:crosses val="autoZero"/>
        <c:auto val="1"/>
        <c:lblAlgn val="ctr"/>
        <c:lblOffset val="100"/>
        <c:noMultiLvlLbl val="0"/>
      </c:catAx>
      <c:valAx>
        <c:axId val="90410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78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0B5-87DA-4CDC-86FF-A66ECDB6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1E44-4E5A-45AE-9887-08B471F4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115E-C624-403C-A30E-DFBA92A9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DC67-1223-4E8C-991F-EBAC0D4B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595-F032-43FC-9B7B-ADE89EAE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8BF3-58A9-4AF6-AC59-6D6EB901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79E-35B3-4273-829B-DA353F83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B66-6801-4F05-92E5-BD0887BA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DDE6-2469-4CF7-8ED4-CDB1509A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0560-019F-47DF-8505-8BD598CF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52A4-FEAE-49D7-9447-3109C312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4FEC-CB05-4312-9666-CA14FC39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43F3A-719E-464C-A4A7-870A05685B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