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760440"/>
        <c:axId val="31294897"/>
      </c:barChart>
      <c:catAx>
        <c:axId val="417604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294897"/>
        <c:crosses val="autoZero"/>
        <c:auto val="1"/>
        <c:lblAlgn val="ctr"/>
        <c:lblOffset val="100"/>
        <c:noMultiLvlLbl val="0"/>
      </c:catAx>
      <c:valAx>
        <c:axId val="312948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7604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CA4B-CA4E-450E-A51C-051F5CC13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2395-F5B3-4F79-84CE-CECCF2ED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CC68-49C8-4566-9BF8-4562E919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7429-339D-4626-BE0A-8E74AD9B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6141-0461-42D5-82CC-3440C4AA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E4BC-10D2-44F3-B512-ADA5F2F9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5171-9026-4481-9918-206B45FF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9771-045C-45BC-B4D1-C7281D5F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524B-0005-45E0-AD4B-63C9807A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9B32-3FA8-454B-9084-BD42385A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9D2B-C091-4D26-A9A5-F925831E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1D11-4887-422E-BCA1-0D91F471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D96EE-3C78-4ADC-BCD3-CA54F8A640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